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91E-C6C2-4DC2-94D6-B98108F0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185-CB02-4489-849C-77CDFF88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642-6CF2-41A7-B3F8-08F0099E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746-87BC-4F6E-B92E-6474A3EB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CD6B-5673-4653-8FC2-63CBA6F6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24E6-CDCD-45E3-AA0B-30DBD407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26CA-B8B3-4D9A-9F84-8B299A8C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32DF-2841-4DA9-A3F2-DEC3EBC5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4115-F18D-41AB-8674-0E3EEC07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5077-958E-4731-96D7-1A744152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93C2-AE55-4178-9A44-B5E63A85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EDB-C838-4516-9730-C846D04C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41EB-42E9-4AD4-9D3C-C0BB276A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AD10-5300-4FAC-B400-CD571289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A8C2-7106-4256-A8E0-B072DC03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289C-A1F1-4316-B8C6-BD317186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A305-2154-4030-A5BB-63397C25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D71-5CFB-41A1-9243-77E0FD39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74E-EC57-4CB9-A862-5BC44662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FC6-EA49-4131-B953-FD951093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49B-F607-4C07-A0A3-EB4B9D5C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238-5C8B-4FF3-ACD2-930248EA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390-EEF6-4D0E-8E7F-67903C47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361-1CED-4B5C-B500-7412965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66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EA47-847B-4ADB-84E0-BCB9F9060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D61D-6D38-4760-8B47-254A1A2A6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028840"/>
            <a:ext cx="78487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uiz Almeida Marins Filho, Ph.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hropos Consul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ão Paulo, Rio, Nova York, Londres, Buenos 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304920"/>
            <a:ext cx="8991360" cy="1295280"/>
          </a:xfrm>
          <a:prstGeom prst="rect">
            <a:avLst/>
          </a:prstGeom>
          <a:gradFill rotWithShape="0">
            <a:gsLst>
              <a:gs pos="0">
                <a:srgbClr val="737326"/>
              </a:gs>
              <a:gs pos="50000">
                <a:srgbClr val="999933"/>
              </a:gs>
              <a:gs pos="100000">
                <a:srgbClr val="7373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2209680"/>
            <a:ext cx="78487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Arial Black"/>
              </a:rPr>
              <a:t>O Brasil e os</a:t>
            </a:r>
            <a:endParaRPr b="1" lang="en-US" sz="4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Arial Black"/>
              </a:rPr>
              <a:t>Desafios do Século XXI</a:t>
            </a:r>
            <a:endParaRPr b="1" lang="en-US" sz="4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6286320" y="129852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29080" y="1149480"/>
            <a:ext cx="18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29080" y="1149480"/>
            <a:ext cx="1824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29080" y="1149480"/>
            <a:ext cx="1824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45200" y="11890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23880" y="38088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0000"/>
                  </a:outerShdw>
                </a:effectLst>
                <a:latin typeface="Impact"/>
              </a:rPr>
              <a:t>Anthropos University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effectLst>
                <a:outerShdw dist="153753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Novo Capitalismo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m surgindo um novo capitalismo. Não é mais o capitalismo do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dono da empresa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s empresas não têm mai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dono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je, os donos das empresas são o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undos de Pensão 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Fundos de Investimen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s bancos. Na verdade, a partir de R$50,00 (cinqüenta reais), qualquer pessoa pode colocar seu dinheiro num fundo de investimento num banc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verdade, os donos das empresas são, hoje,  na verdade, milhares de pequenos investidores. Isso muda quase tud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da, porque não tendo mais “donos” as empresas têm que ser realmente competitivas pois estão sendo observadas constantemente pelos analistas de investimento dos ban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Novo Capitalismo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je o capitalismo funciona mais ou menos assi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pequeno investidor coloca sua poupança num fundo de investimento e pressiona esse fundo (banco) para obter o maior retorno possíve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anco pressiona a empresa na qual o fundo investiu (comprando ações) para que ela tenha lucros cada vez maiores para poder manter seus clientes nos fundos de investime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empresa pressiona seus funcionários para que os fundos de investimento ou de pensão tenham o esperado retorno para seus participantes. É fog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Investidor Global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m, hoje temos um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vestidor Glob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não sabemos onde se encontra e não podemos falar com cada um deles. Falamos com seus prepostos dos bancos e dos fundos de pens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dores de mesas de investimentos dos grandes bancos, recebem hoje cem opções de investimentos por minut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sso dinheiro pode estar agora em Taiwan, dois minutos depois em Nova York e três minutos depois em São Paulo, por exempl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há como “controlar” o fluxo de capital eletrônico que voa pelo mundo. São US$3 trilhões em busca de um melhor pous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419040"/>
            <a:ext cx="8153280" cy="87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Tecnologia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32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ja alguns dados sobre a tecnologia dos dias atua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0 anos de jornal podem ser transmitidos em 1 segundo - 1 trilhão de bits por segund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12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odas as edições do NY Tim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de 1995 a venda de computadores é maior do que de televisores no mu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264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66"/>
                </a:solidFill>
                <a:latin typeface="Verdana"/>
              </a:rPr>
              <a:t>Media Lab - MIT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2666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Media Lab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do Massachussetts Institute of Technology, já conseguira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6 horas de áudio num CD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Vão chegar a 5.000 horas de música num CD - gravando gestos separadamente (pianis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989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Internet no Mundo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8763120" cy="396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ja a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Interne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no mundo de hoj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00 milhões de usuários h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 bilhão em 2001 (M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800 milhões (IB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3 trilhões de E-Mails em 19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de 1995 se envia mais e-mails privados do que correspondências via Corre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66"/>
                </a:solidFill>
                <a:latin typeface="Verdana"/>
              </a:rPr>
              <a:t>HOJE!</a:t>
            </a:r>
            <a:endParaRPr b="0" lang="en-US" sz="6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50.000 pessoas vão adquirir um celula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900 milhões de mensagens serão deixadas em correios de voz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48 milhões de pessoas entrarão na Internet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5 milhões de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e-mail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estão sendo enviados enquanto você está lendo esta lâmina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Comércio Eletrônico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ércio Eletrônico ou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E-Commerc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ignifica comprar e vender produtos através de meios eletrônicos - ou seja via computado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ja uma pessoa comprando passagens, CD’s, etc. de sua própria casa ou seja uma empresa comprando de outra empresa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(business to business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comércio eletrônico vem crescendo assustadoramente e ninguém previa esse cresci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Comércio Eletrônico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8762760" cy="434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grande agenda do Presidente Bill Clinto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12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evisão para 1997 = US$250M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alizado em 1997 = US$9 b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alizado em 1998 = US$21 bilhõ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evisão para ano 200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12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US$250 bilhões (IBM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12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US$650 bilhões (MIT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6461280"/>
            <a:ext cx="28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Comércio Eletrônico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76276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evisão da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Forrester Research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para 200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US$3.2 trilhões (otimista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US$1.7 trilhão (pessimista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5% do comércio mundi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6461280"/>
            <a:ext cx="28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190080"/>
            <a:ext cx="90676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Verdana"/>
              </a:rPr>
              <a:t>Conheça o autor:</a:t>
            </a:r>
            <a:br>
              <a:rPr sz="3800"/>
            </a:br>
            <a:r>
              <a:rPr b="1" lang="en-US" sz="3800" spc="-1" strike="noStrike">
                <a:solidFill>
                  <a:srgbClr val="ffff66"/>
                </a:solidFill>
                <a:latin typeface="Verdana"/>
              </a:rPr>
              <a:t>Luiz Almeida Marins Filho, Ph.D.</a:t>
            </a:r>
            <a:endParaRPr b="0" lang="en-US" sz="3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419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outor (Ph.D.) em Antropologia na Austrália e pós-doutorado em Macro-Economia em Londres, o Professor Marins vem se dedicando ao estudo das empresas e desenvolvendo a Antropologia Empresaria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través da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Anthropos Consulting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com escritórios em São Paulo, Rio, Nova York, Londres e Montevidéu presta consultoria a empresas nacionais e multinacionais em planejamento estratégico, marketing e principalmente na adequação dos processos estratégicos e táticos da empresa em situação de mudança de ambiente de negócios, competitividade, qualidade e produtividad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aliza conferências no Brasil e no exterior, tem vários livros publicados e fitas de vídeo sobre temas de gestão empresarial, marketing e motiv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989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Verdana"/>
              </a:rPr>
              <a:t>Veja a Aceleração da História</a:t>
            </a:r>
            <a:endParaRPr b="0" lang="en-US" sz="3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celeração da história (o tempo parece correr) é também medido pelo tempo entre a descoberta de um processo tecnológico e sua transformação em produto no mercad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tabela a seguir você verá alguns produt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que antes demorava um século para acontecer, agora acontece em apenas um mê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83908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A Aceleração da História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601992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tografia = 112 an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elefone = 56 an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ádio = 35 an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adar = 15 an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elevisão = 12 an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ransistor = 5 an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ircuito Integrado = 3 an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T 286 = 1 an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486 ao Pentium = 1 mê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50840" y="645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63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“passo” da mudança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2819520"/>
            <a:ext cx="876312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próximos 5 anos mudarão mais do que os últimos 30 a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nse no mundo em 1969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nse no mundo em 200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27160" y="6300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989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Brasil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undo todos os prognósticos feitos pelos bancos internacionais e organismos, o Brasil será o grande “palco” da competição global na próxima décad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guir, você verá o tamanho do Brasil em termos econômicos e o tamanho do mercado brasileiro. São dados impressionantes e que impressionam todo o mundo que conhe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a é a razão pela qual as multinacionais de todo o mundo estão vindo para o Brasil de uma forma nunca vista 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E o Brasil?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azendo as reformas necessárias, o Brasil continuará sendo uma das melhores opções para o capitalismo ocidental” (The Economi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O Brasil estará entre as três maiores plataformas exportadoras do mundo nos primeiros quinze anos do século XXI” (IF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Brasil - PIB Comparativo: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 Brasil equivale economicamente 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écia + Espanh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wan + Rúss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namarca + Bélgica + Holan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66"/>
                </a:solidFill>
                <a:latin typeface="Verdana"/>
              </a:rPr>
              <a:t>Brasil - PPP - </a:t>
            </a:r>
            <a:r>
              <a:rPr b="1" i="1" lang="pt-BR" sz="3400" spc="-1" strike="noStrike">
                <a:solidFill>
                  <a:srgbClr val="ffff66"/>
                </a:solidFill>
                <a:latin typeface="Verdana"/>
              </a:rPr>
              <a:t>Purchasing Power Parity - (Poder de Compra)</a:t>
            </a:r>
            <a:endParaRPr b="0" lang="en-US" sz="3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O Brasil é o 9</a:t>
            </a:r>
            <a:r>
              <a:rPr b="0" i="1" lang="pt-BR" sz="3600" spc="-1" strike="noStrike" baseline="30000">
                <a:solidFill>
                  <a:srgbClr val="ffffff"/>
                </a:solidFill>
                <a:latin typeface="Arial"/>
              </a:rPr>
              <a:t>o.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País do mundo em Poder de Compra com mais de   US$1 trilhão de dólares em PPP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UA, China, Japão, Alemanha, India, França, Inglaterra, Itália, Brasil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 previsão é que passe para o 5</a:t>
            </a:r>
            <a:r>
              <a:rPr b="0" lang="pt-BR" sz="3600" spc="-1" strike="noStrike" baseline="30000">
                <a:solidFill>
                  <a:srgbClr val="ffffff"/>
                </a:solidFill>
                <a:latin typeface="Arial"/>
              </a:rPr>
              <a:t>o.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lugar em 2001, atrás da Alemanh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Mercado Brasileiro é de: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,3 milhão de lavador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82% mais que no Canadá - 4o. Maior mercado do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95,1 milhões de litros de shamp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52% mais que no Canad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8,02 trilhões de litros de refriger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43% mais que no Canadá - 3o Maior mercado do mun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Pense num mercado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9 bilhão de fraldas descart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2% mais que na Itál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,4 mil toneladas de creme d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6% mais que na Itál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1,4 mil títulos de liv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% mais que a Itál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$1,2 bilhão em CD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ior mercado fonográfico do mun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Pense num mercado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81,9 mil toneladas de bisco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7% mais que o Jap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o.maior mercado do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milhões de geladei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6% maior que o Reino Un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o.maior mercado do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6 milhões de escovas de d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3% mais que o Mé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Uma sociedade em mudança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2286000"/>
            <a:ext cx="883944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emos numa sociedade espantosamente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dinâmica, instável e evolu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rá sérios riscos quem ficar esperando para ver o que acont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daptação a essa realidade será, cada vez mais, uma questão de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sobrevivê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Pense num mercado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,6 bilhão de potes de 250g de margar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,9 bilhão de pacotes de macarrão de 500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18,5 milhões de calças j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$3.8 bilhões em cosmét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,5 milhões de usuários da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Pense num mercado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idências no interior de São Paul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7% tem geladeira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4% tem TV em cores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1,3% tem Máquina de Lavar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8,3% tem Videocassete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3,3% tem Freez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AD - Pesquisa de Condições de Vi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Pense num mercado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ior mercado de jatos executivos e helicópteros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 microondas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 telefones celulares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 fax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 equipamentos de mergulho e alpinism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A Classe Média Brasileira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 IBGE (Instituto Brasileiro de Geografia e Estatística) diz que a classe média brasileira (só a classe média) é composta de 28 milhões de família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asse média é aquela que não é a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“miserável”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 nem a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“rica”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classe média é justamente aquela que tem uma renda (por pequena que seja) e que compra os refrigerantes, as geladeiras, enfim, os produtos todos em que o Brasil é um dos maiores mercados do mun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Classe média e emergente: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28 milhões de famílias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: (IBGE)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8% maior que a população da Alemanha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aior que a República Checa, Bélgica, Hungria, Portugal, Suécia, Áustria, Suíça, Finlândia, Dinamarca, Noruega, Irlanda, Nova Zelândia, Luxemburgo e Islândia </a:t>
            </a:r>
            <a:r>
              <a:rPr b="1" i="1" lang="en-US" sz="3300" spc="-1" strike="noStrike" u="sng">
                <a:solidFill>
                  <a:srgbClr val="ffff66"/>
                </a:solidFill>
                <a:uFillTx/>
                <a:latin typeface="Arial"/>
              </a:rPr>
              <a:t>junto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28 milhões de famílias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ior que a França e Canadá ju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qüivale a um terço da população dos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qüivale a 72% da população do Jap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Brasil, Hoje: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51 modelos de carro zero disponíve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8 tipos de molho de tom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0 tipos de cervej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0 modelos de tênis esportiv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66"/>
                </a:solidFill>
                <a:latin typeface="Verdana"/>
              </a:rPr>
              <a:t>O PIB Brasileiro...</a:t>
            </a:r>
            <a:endParaRPr b="0" lang="en-US" sz="6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resenta 42% do PIB da América Latina incluindo o México e seu PIB representa 13,3% do PIB total dos países em desenvolvimento, incluindo a Chin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Brasil não vai quebrar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 o Brasil quebrar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éxico quebra 30 minutos depo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Argentina quebra 15 minutos depo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hile quebra 5 minutos depo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araguai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PIB Brasileiro 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o o PIB da Argentina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üivale ao Interior do Estado de São Pa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o o PIB do Chile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üivale ao Grande Campinas (Ernest &amp; You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o o PIB do Uruguai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üivale ao bairro de Santo Amaro em São Pa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Uma sociedade em mudança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um “dínamo” a sociedade atual gera uma “energia” incrível. Nós não vemos mais o tempo passar. Os dias, os meses, os anos, passam com uma velocidade incrível. Vamos ver mais adiante as causas da chamad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eleração da históri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maior risco que corremos é ficarmos esperando para ver o que vai acontecer. Num mundo em extrema mudança, a atitude correta das pessoas é também a atitude de muda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adaptação a essa realidade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namismo, instabilidade e evoluçã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fundamental para o sucesso de qualquer pesso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Turismo no Brasil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grande gerador de emprego e renda no século XXI será o setor terciário da economia (comércio e serviço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 dos maiores geradores de emprego é o Turism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o Brasil tem sido visto como um dos melhores destinos turísticos do mun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nhum país tem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taratas do Iguaçu, Pantanal do Mato Grosso, Chapadas do Centro Oeste, Floresta Amazônica e 7.000 km de praia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Brasil e o Turismo: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Dezenas de projetos para a construção de novos </a:t>
            </a:r>
            <a:r>
              <a:rPr b="0" i="1" lang="pt-BR" sz="3600" spc="-1" strike="noStrike">
                <a:solidFill>
                  <a:srgbClr val="ffff66"/>
                </a:solidFill>
                <a:latin typeface="Arial"/>
              </a:rPr>
              <a:t>resorts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estão saindo do papel, no embalo da retomada do turismo interno e na perspectiva da atração de mais turistas estrangeiros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EJA - 2 de dezembro de 1998 - p.9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Brasil e o Turismo: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US$2 bilhões em cinco ano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Novos projetos na Bahia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5 em Trancos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1 em Porto Segur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2 na Praia de Santo Antôni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rojeto Sauí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Brasil e o Turismo: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Barra de São Miguel, Praia do Francês, Maragogi (Alagoas)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Pipa e Extremoz (RG Nort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Angra e Búzios (Rio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Maria Farinha (Pernambuco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Etc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Verdana"/>
              </a:rPr>
              <a:t>O Brasileiro como empreendedor </a:t>
            </a:r>
            <a:endParaRPr b="0" lang="en-US" sz="3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ro dado interessante sobre o Brasil é o empreendedorismo do brasileir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brasileiro é um empreendedor. É uma característica do brasileiro querer ter seu próprio negócio, ser patrão de si mesm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á inúmeros exemplos de pessoas simples que obtiveram grande sucesso com pequenos negócios, pequenas empresas, negócios simpl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seguir, veja o exemplo do Arnaldo de Londrina, que tem um carrinho de cachorro quente numa avenida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Verdana"/>
              </a:rPr>
              <a:t>O Cachorro-Quente do Arnaldo...</a:t>
            </a:r>
            <a:endParaRPr b="0" lang="en-US" sz="3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76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drina, P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5.000 cachorros-quentes por mês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9.000 refrigerantes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0 funcionários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40 sanduíches ao mesmo tempo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atura R$37.500,00/mê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$450.000,00/ano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ó cachorro-quente!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124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190080"/>
            <a:ext cx="90676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Em busca de novos caminhos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839440" cy="2895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os várias certez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undo mudou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rasil mudou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s caminhos que nos trouxeram até aqui, não são do mesmo tipo e espécie dos que nos poderão conduzir daqui para a fren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989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Novos caminhos!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um mundo em constantes transformações, todos estão em busca de novos caminh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m, vários “sonhos” acabaram. Sonhos que existiam nos tempos em que o mercado brasileiro era fechado e a competição menos acirrada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ja a seguir quais os principais “sonhos” que acabara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Sonho Acabou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76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ários sonhos acabara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 sonho das margens gordas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 sonho de que as empresas poderiam ser verdadeiras “patas gordas”, inchadas de pessoal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 sonho de que estamos competindo internamente com as empresas do Brasil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 sonho de que os custos definiam os preç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124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Preço define o “custo”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principal sonho que acabou é o sonho de que os “custos definiam os preç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é aqui, para precificar um produto a empresa analisava os custos diretos e indiretos na fabricação do produto, colocava uma margem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(mark-up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 colocava o preço de vend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je é </a:t>
            </a: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quanto o consumidor (mercado) está disposto a pagar por um produto é que define o custo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A Instabilidade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stabilida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é dada por dois motivo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LOB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CICLO DE VIDA CURTO DOS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 termos bem simple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lobalizaçã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gnifica que não existe ma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teri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 mundo. De qualquer lugar do planeta, graças ao comércio eletrônico e graças às facilidades de logística e distribuição, uma empresa pode dominar mercados mundiai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outra realidade d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lobalizaçã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é a de qu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bsolutamente nada, ficará fora d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petição glob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Não estamos mais competindo com nossas empresas do Brasil ou mesmo do Mercosul. A competição é global, mesm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Exigências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763120" cy="297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a sociedade em desenvolvimento exi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Rompim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udança e Nov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guagem, Conceitos e Modo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989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A maior mudança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8763120" cy="228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ior mudança foi justamente no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ercado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marketing e vendas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“poder” mudou da mão da empresa para a mão do cl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Tecnologia e Preços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da dia que passa os produtos concorrentes ficam mais similares em termos de tecnologia e preç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diferencial estará, portanto, na capacidade da </a:t>
            </a:r>
            <a:r>
              <a:rPr b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EMPRES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m ser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i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o diferencial estará a cada dia mais na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prestação de serviç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Passado não me ensina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ande verdade é o passado não me ensina muito m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nca tivemos um tempo com tanta competição, com tantas empresas e produtos competindo com os nos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í a importância d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ovação e da Criativ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81532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I.N.O.V.A.R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2280" y="2743200"/>
            <a:ext cx="8305920" cy="236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preciso ino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dá para só cop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preciso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cri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ma nova empresa e 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reinventar o nosso se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27160" y="607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124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que o cliente quer?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você ficar perguntando ao seu cliente o que ele deseja, receberá a merecida respo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ente quer </a:t>
            </a: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DESCONTO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PRAZ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90676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As empresas que venceram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a grande verdade é que as empresas que venceram no mercado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ão foram aquelas que perguntaram o que seus cliente queriam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am aquelas que “Surpreenderam seus Clientes como Produtos e Serviços fundamentalmente Novos e Diferen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Não Pergunte ao Cliente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8763120" cy="2819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cliente não sabe o que ele quer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empresas é que têm a obrigação de, </a:t>
            </a: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ouvindo o merca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urpreender os clientes com produtos e serviços fundamentalmente novos e difer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79440" y="622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99136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Qual cliente pediu?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4343400" cy="47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lefone cel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cDonald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lógio dig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t-it” (3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Walk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tc,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50840" y="622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035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Surpreenderam o cliente!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ses produtos todos (que são os maiores sucessos no mercado) nunca foram “pedidos” pelos cli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eja que esses produtos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“reiventaram o seu set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“Post-it” reinventou o recado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O “walkman” reinventou o andar solitário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Windows” reinventou o computad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Ciclo de Vida Curto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outra realidade é 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iclo de Vida Curto dos Produto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HP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(Hewlett-Packard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, por exemplo,  tem lançado uma nova impressora a cada seis meses. A General Motors lança no Brasil um novo modelo de carro a cada 3 meses. Novos biscoitos são lançados no Brasil a cada 15 dia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é então, os produtos “duravam” anos e anos. O consumidor, num mercado fechado como era o brasileiro, não se apercebia da defasagem entre o Brasil e mercados mais desenvolvidos. Hoje é diferente. Como veremos, o Brasil mudou, o consumidor mud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sas são as razões principais d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instabilidad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os dias atuai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uvir o cliente?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s que você me ache louco, deixe-me explic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É claro que você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v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ouvir o clien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to porque ouvir o cliente é a maneira mais simples, barata, eficaz para você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MPREENDER O MERC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Mas a sua missão é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Surpreender o Cliente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Encantar o Cliente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Entusiasmar o Cliente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 você ficar só ouvindo o cliente e fazendo só o que ele pede, correrá o risco de aparecer alguém e </a:t>
            </a:r>
            <a:r>
              <a:rPr b="1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surpreender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o seu cliente e tomá-lo de você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Por isso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7200" spc="-1" strike="noStrike">
                <a:solidFill>
                  <a:srgbClr val="ffff66"/>
                </a:solidFill>
                <a:latin typeface="Arial"/>
              </a:rPr>
              <a:t>informação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será o grande e único “produto” daqui para a frente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79440" y="614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Vender, Hoje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m, será capaz de vender para mim quem soub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que eu quer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o quer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de quer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m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rpreender e encantar com produtos e serviços novos e diferentes que eu não imaginava serem possívei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Vender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358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ender” é administrar, eficazmente, as contingências de </a:t>
            </a:r>
            <a:r>
              <a:rPr b="1" i="1" lang="en-US" sz="5400" spc="-1" strike="noStrike">
                <a:solidFill>
                  <a:srgbClr val="ffff66"/>
                </a:solidFill>
                <a:latin typeface="Arial"/>
              </a:rPr>
              <a:t>compr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66"/>
                </a:solidFill>
                <a:latin typeface="Arial"/>
              </a:rPr>
              <a:t>Não é “falar”,  é 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27160" y="6224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Prestação de Serviços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26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900" spc="-1" strike="noStrike">
                <a:solidFill>
                  <a:srgbClr val="ffffff"/>
                </a:solidFill>
                <a:latin typeface="Arial"/>
              </a:rPr>
              <a:t>Prestar serviços!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Marketing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star atento às tendências do </a:t>
            </a:r>
            <a:r>
              <a:rPr b="1" i="1" lang="en-US" sz="5400" spc="-1" strike="noStrike">
                <a:solidFill>
                  <a:srgbClr val="ffff66"/>
                </a:solidFill>
                <a:latin typeface="Arial"/>
              </a:rPr>
              <a:t>mercado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 para identificar e produzir, rapidamente, aquilo que o cliente quer..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 nem sempre sabe que quer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03480" y="6300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35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66"/>
                </a:solidFill>
                <a:latin typeface="Verdana"/>
              </a:rPr>
              <a:t>A Fidelização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maior desafio é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“fidelizar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 client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Às vezes desprezamos um cliente pequenos, de uma compra, e não nos atentamos para o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valor do cliente durante o tempo em que ele poderá comprar de mim durante a vida to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Um exemplo real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Há 26 anos atrás, mudei-me para um chácara em Sorocaba, SP e desde então minha mulher compra frutas e verduras de uma banca do mercado da cidad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astamos em média US$50.00 (cinquenta dólares) por semana nessas compras. Fizemos as contas e veja quanto já pagamos nessa banca nesses 26 ano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Quanto vale um cliente?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380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anca da Ymako e do Pedro no Mercado de Sorocaba, S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26 anos X US$50.00/sema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S$67,600.00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sso é o quanto já comprei na banca de um mercad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03480" y="6300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035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A única certeza 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um mundo como este, a única certeza estável é a certeza de que tudo vai mudar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E ainda pergunto: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 nesses 26 anos, quantos clientes novos eu e minha mulher mandamos para essa banca por contarmos às outras pessoas onde compramos e o maravilhoso serviços que a banca nos tem prestad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90676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Cliente como “Vendedor”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assim, por melhores vendedores que tenhamos ou sejamos, precisamos que o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ja novo vendedor ativo, falando aos outros pelo “boca-a-boca” de nossos produtos e serviç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isso, o maior objetivo de uma empresa (seja ela qual for e de qualquer tamanho) é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bjetivo da Empresa: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400" spc="-1" strike="noStrike">
                <a:solidFill>
                  <a:srgbClr val="ffffff"/>
                </a:solidFill>
                <a:latin typeface="Arial"/>
              </a:rPr>
              <a:t>Transformar o cliente, num </a:t>
            </a:r>
            <a:r>
              <a:rPr b="1" i="1" lang="en-US" sz="8400" spc="-1" strike="noStrike" u="sng">
                <a:solidFill>
                  <a:srgbClr val="ffff66"/>
                </a:solidFill>
                <a:uFillTx/>
                <a:latin typeface="Arial"/>
              </a:rPr>
              <a:t>vendedor ativo</a:t>
            </a:r>
            <a:endParaRPr b="0" lang="en-US" sz="8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79440" y="630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E aí a pergunta: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2280" y="2438280"/>
            <a:ext cx="87631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omo transformar o nosso cliente em nosso </a:t>
            </a:r>
            <a:r>
              <a:rPr b="1" i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vendedor ativo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66"/>
                </a:solidFill>
                <a:latin typeface="Verdana"/>
              </a:rPr>
              <a:t>Como transformá-lo?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763120" cy="3124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A grande dificuldade é o cliente só vende o que ele</a:t>
            </a:r>
            <a:r>
              <a:rPr b="0" lang="en-US" sz="6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400" spc="-1" strike="noStrike" u="sng">
                <a:solidFill>
                  <a:srgbClr val="ffff66"/>
                </a:solidFill>
                <a:uFillTx/>
                <a:latin typeface="Arial"/>
              </a:rPr>
              <a:t>NÃO ESPERA</a:t>
            </a: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35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que </a:t>
            </a:r>
            <a:r>
              <a:rPr b="1" lang="en-US" sz="4200" spc="-1" strike="noStrike" u="sng">
                <a:solidFill>
                  <a:srgbClr val="ffff66"/>
                </a:solidFill>
                <a:uFillTx/>
                <a:latin typeface="Verdana"/>
              </a:rPr>
              <a:t>não espera</a:t>
            </a: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?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cliente só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venderá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e uma empresa aquilo que a empresa 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surpreende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 Não venderá o que ele esp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inguém dirá de uma companhia de aviação que os aviões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“decolam, voam e aterrissam”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 Ele falará do “tapete vermelho, do café, do piano na sala de embarque”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inguém (quando fala da Disney) diz: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“- Vi o Mickey”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 Dirá das coisas que não havia esperado ter visto na Disney e assim por diante - todos verão o Micke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inguém fala de um supermercado dizendo que ele tem produtos nas gôndolas. Ele falará do que </a:t>
            </a:r>
            <a:r>
              <a:rPr b="1" i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não esperav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ou seja do que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não é comum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a todos os supermercados - um caixa super-rápido, por exemp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A grande pergunta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m, a grande pergunta que temos que fazer não é o que o cli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spe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 nós mas sim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O que ele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NÃO ESPERA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de nós e de nossa empresa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Momentos Mágicos!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or isso é que temos que dar aos nossos clientes ..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279440" y="622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4120" y="2286000"/>
            <a:ext cx="83026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r>
              <a:rPr b="0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Momentos</a:t>
            </a:r>
            <a:endParaRPr b="0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Mágicos !</a:t>
            </a:r>
            <a:endParaRPr b="0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E evitando a qualquer custo...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4120" y="2286000"/>
            <a:ext cx="83026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r>
              <a:rPr b="0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Momentos</a:t>
            </a:r>
            <a:endParaRPr b="0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Trágicos !</a:t>
            </a:r>
            <a:endParaRPr b="0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3" name=""/>
          <p:cNvSpPr/>
          <p:nvPr/>
        </p:nvSpPr>
        <p:spPr>
          <a:xfrm>
            <a:off x="31989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915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Ficamos obsoletos ...</a:t>
            </a: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 mundo em mudança, o nosso índice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bsolescência ou de fossilizaçã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é muito grand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não fizermos um grande esforço para acompanhar a mudança, viramos fósseis rapidament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repente não acompanhamos mais quase nada. Internet, novos produtos, novas tecnologias exigem de nós uma acelerada busca de atualização. E isso nem sempre é fácil, porque temos a tendência de nos acomodar no que nos é conhecido e todo o ser humano tem medo do novo, do desconhecid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 síntese, este mundo exige de cada um de nós uma grande determinação para uma constante aprendizag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6477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9067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que é Administrar, Hoje?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686800" cy="297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r é hoje um exercício constante de quebra de tradições teóricas estabelec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Escolas de Administração de Empresas ensinam o pass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preciso fazer o presente e </a:t>
            </a:r>
            <a:r>
              <a:rPr b="1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criar o futu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79440" y="630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Cultura Empresarial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É preciso desenvolver uma </a:t>
            </a:r>
            <a:r>
              <a:rPr b="1" lang="en-US" sz="6600" spc="-1" strike="noStrike">
                <a:solidFill>
                  <a:srgbClr val="ffff66"/>
                </a:solidFill>
                <a:latin typeface="Arial"/>
              </a:rPr>
              <a:t>Visão de Marketin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dequada à realidade deste final de década e início do Século XX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55760" y="607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5124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Todos “Vendedores”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m, numa empresa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dos temos que ser “vendedores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odos temos que ter consciência de que a sobrevivência e o sucesso da empresa depende de cada um de nós e não apenas do Departamento de Vendas ou do Marketing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ssoas da área de “suporte” (contas a pagar, contabilidade, jurídico, etc.) às vezes não têm a consciência de que são “vendedores”. Isso fará a diferenç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Verdana"/>
              </a:rPr>
              <a:t>Quem Tem Medo do Século XXI ?</a:t>
            </a:r>
            <a:endParaRPr b="0" lang="en-US" sz="3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que não acreditam que o mercado mudou, que o cliente mudou, que a competição será cada vez mais acirrada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que não acreditam que as margens serão cada vez mais baixa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que não acreditam que é preciso trabalhar em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custos, qualidade e produtiv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124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52280" y="2057040"/>
            <a:ext cx="8763120" cy="396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que não acreditam que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Prestação de Serviços é o Novo Nome do Jogo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que não investem em treinamento de seus funcionári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acomodad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medros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im, os mesmos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76320" y="53352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Verdana"/>
              </a:rPr>
              <a:t>Quem Tem Medo do Século XXI ?</a:t>
            </a:r>
            <a:endParaRPr b="0" lang="en-US" sz="3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7492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Um novo MILÊNIO!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indo, quero que você pense e compreenda que é preciso vencer os desafios deste novo Milên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bast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mudar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preci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INVENTAR VENDAS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INVENTAR O MARKETING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fim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Século XXI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ff"/>
                </a:solidFill>
                <a:uFillTx/>
                <a:latin typeface="Arial"/>
              </a:rPr>
              <a:t>REINVENTAR A EMPRESA</a:t>
            </a:r>
            <a:r>
              <a:rPr b="1" i="1" lang="en-US" sz="88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ense niss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ud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credit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ense Grand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gora é a Hora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final, estamos no Século XXI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98560" y="61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75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76320" y="3124080"/>
            <a:ext cx="89913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ão Paulo, Rio de Janeiro, Nova York, Londres, Buenos 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ead Office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66"/>
                </a:solidFill>
                <a:latin typeface="Times New Roman"/>
              </a:rPr>
              <a:t>Tel.: (15)224-109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66"/>
                </a:solidFill>
                <a:latin typeface="Times New Roman"/>
              </a:rPr>
              <a:t>Fax: (15)224-148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66"/>
                </a:solidFill>
                <a:latin typeface="Times New Roman"/>
              </a:rPr>
              <a:t>unianthropos@uol.com.b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66"/>
                </a:solidFill>
                <a:latin typeface="Times New Roman"/>
              </a:rPr>
              <a:t>www.commit.com.b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260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Verdana"/>
              </a:rPr>
              <a:t>O Século XXI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coisas que mais mudaram neste final de século s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Capitalismo do Século XX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Nações e Indústrias vão competir numa nova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economia 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o surgimento de um novo investidor:                O Investidor 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5760" y="584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1440" y="1447920"/>
            <a:ext cx="7696080" cy="2286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8960" y="6461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Anthropos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Anthropos Consulting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4:03:00Z</dcterms:created>
  <dc:creator/>
  <dc:description/>
  <dc:language>en-US</dc:language>
  <cp:lastModifiedBy>COLEGIO BRASIL EUROPA</cp:lastModifiedBy>
  <cp:lastPrinted>1999-05-27T14:04:05Z</cp:lastPrinted>
  <dcterms:modified xsi:type="dcterms:W3CDTF">2000-11-01T01:05:27Z</dcterms:modified>
  <cp:revision>341</cp:revision>
  <dc:subject/>
  <dc:title>Os Desafios do Século XXI</dc:title>
</cp:coreProperties>
</file>