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B6E-BFB4-4F54-AC95-A16DF489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FCE-BADA-4396-8264-3BD4AF0E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7FE-867C-47FC-8C90-E856D099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159-A7C9-4A65-99D6-66029D63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772-2BC6-467C-B7E7-D3A0D216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B03-87B5-4CDD-A3FD-1B157EF8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B86-BCD0-4DEE-A2BB-4032AA30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5C6-17F4-4DEC-A1CE-A9D33B35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048-873E-4DA6-A4DB-CF28871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F0E-0C55-49B2-AD65-7B7D0274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8DA-14F9-4C01-BD3F-59E2C62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C73-D042-44F4-9152-0672AE8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AE20-899B-498B-9669-CE4ABC6459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ES DO COMPUTAD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 Apresentação do Objeto do Curso: o Computador e o Processamento da Infor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amento da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amento da Informação pelo Ser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habitantes das cavernas pintavam animais nas paredes, não se sabe muito bem o que eles representav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uito tempo depois, os sumérios criaram um sistema para representar sua linguagem através de desenhos, gravados em placas de argil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egípcios representavam sua linguagem através dos hieróglifos gravados em papiros, os chineses gravavam mensagens nos cascos de tartarug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incas usavam fios com nós (os quipos). Assim nasceu a escri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conceitos gerais de linguagem tem uma representação muito complex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r exemplo, como representar um objeto, uma ação ou um sentim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quanto à representação de quantidades? Inicialmente, quantidades eram representadas com os de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sim, desde o princípio nosso entendimento de quantidades sempre foi digital (vem de "digitus" =ded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s, após a contagem (usando os dedos), como armazenar (guardar ou registrar) o resultad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como processar uma con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mais antigos registros encontrados representam quantidades através de entalhes em ossos,possivelmente para contagem dos dias. Cada entalhe, um dia, imitando a contagem nos de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das as civilizações antigas criaram alguma forma de representação de quantidades, mas cada número n era sempre representado por n símbolos da un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facilitar a contagem, as unidades eram agrupadas em grupos de 5 (uma mão-cheia) ou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duas mãos-chei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s de Nume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sistemas de numeração tem por objetivo prover símbolos e convenções para representar quantidades, de forma a registrar a informação quantitativa e poder processá-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representação de quantidades se faz com os núme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antiguidade, duas formas de representar quantidades foram inventa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egípcios, criaram um sistema em que cada dezena (uma mão-cheia de nosso exemplo anterior) era representada por um símbolo difer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 os símbo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# para representar uma cente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amp; para representar uma dezen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@ representando uma un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###&amp;&amp;@ representaria 32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numeração ro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ram usados símbolos (letras) que representavam as quantidades, como por exempl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 ( valendo 1), V (valendo 5), X (valendo 10), C (valendo 100)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regra de posicionamento determinava que as letras que representavam quantidades menores e precediam as que representavam quantidades maiores, seriam somadas; se o inverso ocorresse, o menor valor era subtraido do maior (e não somado). Assim, a quantidade 128 era representada por CXXVIII = 100 + 10 + 10 + 5 + 1 + 1 + 1 = 1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outro lado, a quantidade 94 era representada por XCIV = (-10 + 100) + (-1 + 5) = 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sses sistemas, os símbolos tinham um valor intrínseco, independente da posição que ocupavam na representação (sistema numérico não-posicional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grande problema desse sistema é a dificuldade de realizar operações com essa representação. Experimente multiplicar CXXVIII por XCIV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im, posteriormente foram criados sistemas em que a posição dos algarismos no número passou a alterar seu valor (sistemas de numeração posiciona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s de Numeração Posi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s sistemas de numeração posicionais, o valor representado pelo algarismo no número depende da posição em que ele aparece na repres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imeiro sistema desse tipo foi inventado pelos chineses. Eram usados palit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ndo 1 a 5 palitos dispostos na vertical para representar os números 1 a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6 a 9 eram representados por 1 a 4 palitos na vertical,  mais um palito na horizontal (valendo 5) sobre os dem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da número era então representado por uma pilha de palitos, sendo uma pilha de palitos para as unidades, outra para as dezenas, outra para as centena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e sistema, com as pilhas de palitos dispostas em um tabuleiro, permitia a realização das quatro operações aritmét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existia representação para o zero (o espaço relativo ficava vazio).O tabuleiro aritmético (chamado swan-pan), além das quatro operações, era usado na álgebra e na solução de equações. Essa técnica era chamada de Método do Elemento Celes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Alfabeto e o Áb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Oriente Médio, por esses tempos, criou-se uma das mais importantes invenções da humanidade: o alfabeto. Na antiguidade, usava-se um símbolo para representar cada conceito ou palavra. Assim, eram necessários milhares de símbolos para representar todos os objetos, ações, sentimentos, etc - como são ainda hoje algumas linguag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Decorar tod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grande achado foi decompor a linguagem em alguns poucos símbolos e regras bás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conseqüência de fundamental importância para nossos estudos de informática foi possibilitar a ordenação alfab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essa é uma tarefa típica dos computadore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ssa época, foi também criado o ábaco - uma calculadora decimal m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Algarismos e o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r volta do ano de 650, os hindus inventaram um método de produzir papel (que antes já fora inventado pelos chineses)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us matemáticos criaram uma representação para os números em que existiam diferentes símbolos para os as unidades, incluindo um símbolo para representar o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2 A Evolução dos Comput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istórico do desenvolvimento dos computadores (do ábaco aos dias de hoj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3 Modelo Hipotético de um Comput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delo em blocos (núcleo, seus componentes e perifér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4 Componentes do Comput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agrama de Blocos de um Compu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nidade Central de Processamento (U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mória Principal (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spositivos de Entrada e Saída (E/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sa simples criação permitiu que se processasse a aritmética decimal e se fizesse contas - no papel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m, depois de milhares de anos em que todos os cálculos eram feitos com calculadoras (ábacos, swan-pan, etc) finalmente era possível calcular sem auxílio mecânico, usando um instrumento de escrita e pap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matemática criada pelos hindus foi aprendida pelos árabes (que depois foram copiados pelos europeus). Por volta de 830, um matemático persa (chamado Al-khwarismi, que inspirou o nome algarismo) escreveu um livro (Al-gebr we'l Mukabala, ou álgebra) em que apresentava os algarismos hindus. E esse livro, levado para a Europa e traduzido, foi a base da matemática do Renasc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BA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ÁBACO é um calculador decimal operado manua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stuma-se considerar o ábaco como o primeiro dispositivo criado para facilitar o trabalho do homem em processar inform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ábaco foi inventado no oriente médio há milhares de anos e ainda hoje é muito utilizado no or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baco" descr=""/>
          <p:cNvPicPr/>
          <p:nvPr/>
        </p:nvPicPr>
        <p:blipFill>
          <a:blip r:embed="rId1"/>
          <a:stretch/>
        </p:blipFill>
        <p:spPr>
          <a:xfrm>
            <a:off x="457200" y="468360"/>
            <a:ext cx="769608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DORA MECÂ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-se a Blaise Pascal (1623-1662) a construção da primeira calculadora mecân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btr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ascal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R PROGRAM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 1801, Joseph Marie Jacquard inventou um tear mecânico dotado de uma leitora de cartões perfurad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quais representavam os desenhos do tecido - portanto um processador das informações relativas à padronagem do tecido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tear funcionava tão bem que este é o primeiro exemplo prático de desemprego provocado pela automaçã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DOR ANALÍ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arles Babbage (1792-1871) concebeu um Computador Analítico dotado de um dispositivo a que chamou de MOINHO (uma máquina de somar com precisão de até 50 casas decimai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um dispositivo de entrada que leria cartões perfurados contendo não somente números (os dados) mas também INSTRU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160" y="-3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o que fazer com os dad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maginou ainda um dispositivo de memória que chamou de ARMAZÉM para guardar os números, um banco com 1000 "registradores" cada qual capaz de armazenar um número de 50 dígitos - os números dados pelos cartões de entrada ou então números resultados de operações do moinh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lmente, incluiu um dispositivo impressor para dar saída aos resultad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s instruções (gravadas em cartões) possíveis de ser implementadas pelo moinho era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ar com um número no armazé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ar com um número no moinh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 um número do moinho para o armazé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 um número do armazém para o moi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dar o moinho para executar uma ope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ir com um resul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5 Conceitos Bá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amento Automático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its &amp;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lavra (Unidade de Inform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6 Memó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cnolog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ierarquia de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gist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mória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mórias Auxili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a desenvolveu séries de instruções para o calculador analítico, criando conceitos tais como sub-rotinas, loops e saltos condiciona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bbage é considerado o precursor do compu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a é considerada a precursora do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bbage e Ada estavam muito além do seu tempo e não conseguiram financiamento para construir o seu Computador Analítico, que ficou apenas como uma belíssima idéia no papel - ele nunca foi concluí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da_babb" descr=""/>
          <p:cNvPicPr/>
          <p:nvPr/>
        </p:nvPicPr>
        <p:blipFill>
          <a:blip r:embed="rId1"/>
          <a:stretch/>
        </p:blipFill>
        <p:spPr>
          <a:xfrm>
            <a:off x="457200" y="752400"/>
            <a:ext cx="81532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LER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erman Hollerith (1860-192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ambém inspirou-se nos cartões de Jacquard para criar uma máquina para acumular e classificar informações - a Tabuladora de Cens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cação: processamento dos dados do cen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holler" descr=""/>
          <p:cNvPicPr/>
          <p:nvPr/>
        </p:nvPicPr>
        <p:blipFill>
          <a:blip r:embed="rId1"/>
          <a:stretch/>
        </p:blipFill>
        <p:spPr>
          <a:xfrm>
            <a:off x="533520" y="339840"/>
            <a:ext cx="8153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1- Konrad Zuse (Alemanh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digital, automático, programável, de propósito geral, completamente funcional (eletro-mecânic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BC Computer (Atanasoff-Berry Compu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2 - John V. Atanasoff / Clifford Berry (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protótipo de calculador eletrônico que funcionou nos E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943 - Alan Turing (Bletchley Park, Inglat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ônico programável; aplicação: criptografia; quebra de códig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VARD MARK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4 - Howard Aiken (Universidade de Harvard - 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omecânico automático de grande 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NIAC - Eletronic Numerical Integrator and Calculat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6 - John Mauchly e J. Presper Eckert (Ballistic Research Lab, University of Pennsylvania, 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ônico digital de grande porte Característ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mal (operava na base dez, não binário) - 19000 válvulas - 175 Kw de potência - 5.000 operacões por segundo - armazenamento para 20 números de 10 dígit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 não tinha qualquer tipo de memória central -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dio entre falhas (MTBF) de 5,6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ção: cálculo balís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7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utura da Memória Princip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élulas e Endereç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úmero de bits para representar um endere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dade da Memória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8 Unidade Central de Processamento (U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9 Acesso à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dores utilizados na comunicação MP/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quemático de Funcionamento da Comunicação MP / UCP- Func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sso Tipo LER ou ESCR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ção das Memó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7 - Universidade de Stanford (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ventado o primeiro dispositivo eletrônico de estado sól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ransist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CHESTER MARK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8 - F.C.Williams, Tom Kilburn e a Max Neuman Royal Society Computing Machine Laboratory (Universidad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nchester, Inglat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protótipo de computador eletrônico de programa armazen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cutou o primeiro programa com sucesso em 21/06/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DSAC - Eletronic Delay Storage Automatic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949 - Maurice Wilkes (Universidade de Cambridge, Inglat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ônico digital de programa armazenado de grande porte, totalmente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cutou o primeiro programa com sucesso em 06/05/4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AC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949 - Mauchly and Eckert Computer Corporation, depois UNIVAC, depois Unis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ônico disponível comercialmente, usava programa armazenado e um compil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cação: Processamento das elei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RLWIND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50 - J.Forrester (Massachussets Institute of Technology - MIT, 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para processamento em tempo r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BM 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3 - IBM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computador eletrônico digital IB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CR 3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7 - NCR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computador comercial 100% construído com componentes de estado sólido (transist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BM 3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7 - IBM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computador comercial a utilizar unidades de disco com cabeças móve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DP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9 - Digital Equipment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ni-comput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BOL - Common Business Oriented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60 - Conference on Data System Languages CODAS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linguagem de programação de computadores para aplicação comercial padroni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C - CIRCUITO INTE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61 - Fairchild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circuito integrado disponível comerci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L 4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1 - Intel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processador disponível comerci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ITS 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2 - MITS (Micro Instrumentation and Telemetry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disponível para uso pess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3 - Xerox PARC (Palo Alto Research Cen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pessoal completo, totalmente funcional, incluindo moni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TAIR 8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5 - Edward Roberts, William Yates e Jim Byb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pessoal produzido industrialmente para venda em mas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PLE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6 - Steve Jobs e Steve Wozniak (Apple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pessoal a ter suces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81 - IBM Corp (Boca Raton, FL, E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pessoal IBM; arquitetura aberta; um imenso suces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AÇÃO DA INFOR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nfor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amos vivendo a Era da Informaçã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spomos hoje de acesso instantâneo a uma quantidade de informação maior do que conseguimos tra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que é INFORMAÇÃ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fine que informação está presente sempre que um sinal é transmitido de um ponto a ou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pple2" descr=""/>
          <p:cNvPicPr/>
          <p:nvPr/>
        </p:nvPicPr>
        <p:blipFill>
          <a:blip r:embed="rId1"/>
          <a:stretch/>
        </p:blipFill>
        <p:spPr>
          <a:xfrm>
            <a:off x="457200" y="754200"/>
            <a:ext cx="8686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bmpc" descr=""/>
          <p:cNvPicPr/>
          <p:nvPr/>
        </p:nvPicPr>
        <p:blipFill>
          <a:blip r:embed="rId1"/>
          <a:stretch/>
        </p:blipFill>
        <p:spPr>
          <a:xfrm>
            <a:off x="1371600" y="301680"/>
            <a:ext cx="64008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 exemplo, são informaçõ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lavr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quadro (sinais visuais na forma de ondas de luz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impulsos elétricos através dos quais nossos olhos transmitem imagens ao cérebr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úsic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formações podem ser armazenadas e depois reproduzid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livros, em discos, em fotografias, e na memória hum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mazenamento e reprodução da informação são os genes: o código genético de um ser v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amento da informação refere-se ao armazenamento, transmissão, combinação e comparação da informaçã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escrita iniciou este processo,a imprensa foi um passo muito importante, e recentemente as telecomunicações difundem informação instantânea por todo o plane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D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amento da Informação pelo Ser V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s SENTIDOS são meios de receber sinais do meio ambient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eis da GRAMÁTICA e da LÓGICA (e, não, se, então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NÚMER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úmeros podem ser representados com os dedos (dedo = dígito). Possivelmente vem daí que o sistema numérico ao qual estamos todos acostumados é o decimal (dez dedo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sistema decimal não é o único, nem o mais prático, pois 10 só é divisível por 2 e 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numérico divisível por mais números, por exemplo o sistema duodecimal pois 12 é divisível por 2, 3, 4e 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se sistema foi criado há milhares de anos e é muito usado ainda hoje pelo comércio: por exemplo, uma dúzia (doze) de bananas, uma grosa (144) de parafu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9:13:46Z</dcterms:created>
  <dc:creator>LSI</dc:creator>
  <dc:description/>
  <dc:language>en-US</dc:language>
  <cp:lastModifiedBy>ale</cp:lastModifiedBy>
  <dcterms:modified xsi:type="dcterms:W3CDTF">2001-09-15T00:26:13Z</dcterms:modified>
  <cp:revision>1</cp:revision>
  <dc:subject/>
  <dc:title>COMPONENTES DO COMPUTADOR </dc:title>
</cp:coreProperties>
</file>